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2B339-2C4E-4F15-85EC-47DF2C5A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FF201-7297-4552-B6BC-857B129D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165A2-1209-4E76-AA7A-9BFE3AEB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DB03E-B323-4CF6-AB51-C5B77AC7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C750-07D9-405C-B466-04A4E8B4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0E5E-4B9C-41F1-8FCA-28B21220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9A74-821E-4730-B9D0-A208A1C1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2986-7D4F-4CFA-B654-9AE4D9F5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D689-33D8-488D-9FF6-2D7FF55E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A16F-E5F7-4E00-8DDA-B2649546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7BC4-34E3-4536-86D3-0D8C84B1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AC3E7-F77B-46B4-A812-1ED72C1B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95E5-1B26-4AC3-8146-314016DE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13BA-ED98-4E5E-A8EE-E7799076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1DB1-4457-4D08-A93D-E27B967E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77F8-7279-4035-9081-700B466F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2830-EE38-4F94-8796-B1ACF819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83BBE-D76A-42F1-8BC1-5FBDB4CC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163D-C80B-40F6-8AD6-6BF2D486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F6520-24E9-4724-91F8-5D73C691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22119-EAA7-4DCD-BCC4-1E3DB189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724A3-9766-416A-A8FF-E2A4D474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5B0D5-270D-42D2-A10E-17CA295F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E8AEB-29BA-4311-AD25-2FEB51BC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72D8-01F7-4C50-B23C-FB882993D5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2DEF-7849-492A-87D0-3D009563D3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hyperlink" Target="mailto:s@cdu.edu.ua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1828800"/>
            <a:ext cx="6435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ІНФОРМАЦІЙНЕ СЕРЕДОВИЩЕ СИСТЕМИ УПРАВЛІННЯ НАВЧАЛЬНИМ ПРОЦЕСОМ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ВН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87280" y="476280"/>
            <a:ext cx="5977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Черкаський державний технологічний універс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616572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7d"/>
                </a:solidFill>
                <a:latin typeface="Arial"/>
              </a:rPr>
              <a:t>м. Черкаси, 10.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09</a:t>
            </a:r>
            <a:r>
              <a:rPr b="1" lang="uk-UA" sz="2400" spc="-1" strike="noStrike">
                <a:solidFill>
                  <a:srgbClr val="00007d"/>
                </a:solidFill>
                <a:latin typeface="Arial"/>
              </a:rPr>
              <a:t>.200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724280"/>
            <a:ext cx="5472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Факультет інформаційних технологій і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24160" cy="2343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238880" y="4221000"/>
            <a:ext cx="1905120" cy="24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7d"/>
                </a:solidFill>
                <a:latin typeface="Arial"/>
              </a:rPr>
              <a:t>Інформаційне середовище В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5013360"/>
            <a:ext cx="835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Інформаційний об’єкт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ІО)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формаційного середовища ВНЗ – набір даних і знань, що сприймається як цілісний інформаційний продукт чи ресурс системи управління ВН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86425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7d"/>
                </a:solidFill>
                <a:latin typeface="Arial"/>
              </a:rPr>
              <a:t>Інформаційне середовище В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4247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7d"/>
                </a:solidFill>
                <a:latin typeface="Arial"/>
              </a:rPr>
              <a:t>Інформаційне середовище В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13372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ип інформаційного об’єкт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пис структури інформаційного об’єкту (опис структури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ан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яка міститься в інформаційному об’єкті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раметри інформаційного об’єкт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ладові інформаційного об’єкту, формування значення кожної з яких може виконуватись незале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Наповнення параметрів інформаційного об’є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                                                  )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множина даних, яка відповідає значенням параметрів інформаційного об’єкту (є означенням параметрів інформаційного обєкту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700360" y="3548160"/>
                <a:ext cx="28796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71640" y="5013360"/>
                <a:ext cx="25196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7d"/>
                </a:solidFill>
                <a:latin typeface="Arial"/>
              </a:rPr>
              <a:t>Інформаційне середовище В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421000"/>
            <a:ext cx="720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іж інформаційними об’єктами інформаційного середовища ВНЗ існують певні зв’язки, які надалі будемо називати інформаційними функці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Інформаційна функція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еалізовані в процесах інформаційної взаємодії відношення між інформаційними об’єк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7d"/>
                </a:solidFill>
                <a:latin typeface="Arial"/>
              </a:rPr>
              <a:t>Інформаційне середовище В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69080" cy="3122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5084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Інформаційна функці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є собою інформаційний процес з перетворення даних і знань, які належать параметрам одних ІО, в параметри іншого І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7d"/>
                </a:solidFill>
                <a:latin typeface="Arial"/>
              </a:rPr>
              <a:t>Інформаційне середовище В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2060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уті інформаційна функція інформаційного середовища ВНЗ – сукупність процесів формування інформаційних об’єкті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411280" y="3068640"/>
                <a:ext cx="44643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468360" y="3789360"/>
            <a:ext cx="82072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еред ІФ можна виділи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формаційні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функції-прототип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як загальне представлення дій з переробки даних і знань) – підмножини функцій одного тип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формаційні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функції-екземпляр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процеси опрацювання даних і знань, що представлені заданими параметрами сформованих інформаційних об‘єктів) – конкрентна функція, що входить до функції-прототип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7d"/>
                </a:solidFill>
                <a:latin typeface="Arial"/>
              </a:rPr>
              <a:t>Інформаційне середовище В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5805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формаційна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функція-екземпля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835280" y="1989000"/>
                <a:ext cx="54403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1337040" y="3141720"/>
            <a:ext cx="595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формаційна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функція-прототип, якщ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627280" y="3573360"/>
                <a:ext cx="2521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∈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853920" y="4365720"/>
                <a:ext cx="68137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l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l</m:t>
                        </m:r>
                      </m:sub>
                    </m:sSub>
                    <m:r>
                      <m:t xml:space="preserve">⊆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l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5219640" y="3716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ких, щ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419640" y="5013360"/>
                <a:ext cx="1766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∈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332000" y="501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од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7d"/>
                </a:solidFill>
                <a:latin typeface="Arial"/>
              </a:rPr>
              <a:t>Інформаційне середовище В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ля вирішення поставленої наукової задачі необхід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значитися із структурою та наповненням інформаційного середовища ВН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обити ефективну технологію формування о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єктів  інформаційного середовища ВНЗ в процесі автоматизованого навчання, контролю і оцінювання навчальних досягнень студен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7d"/>
                </a:solidFill>
                <a:latin typeface="Arial"/>
              </a:rPr>
              <a:t>Структура інформаційного середовища ВН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інформаційному середовищі ВНЗ, відповідно до цілей його діяльності можна виділ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інформаційне середовище системи управління навчанн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інформаційне середовище системи управління ВН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7d"/>
                </a:solidFill>
                <a:latin typeface="Arial"/>
              </a:rPr>
              <a:t>Структура інформаційного середовища ВН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інформаційному середовищі системи управління навчанням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жна виділи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формаційне середовище системи управління навчальним процес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формаційне середовище процесу навча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формаційне середовище суб‘єктів навч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7d"/>
                </a:solidFill>
                <a:latin typeface="Arial"/>
              </a:rPr>
              <a:t>Питан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становка пробле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нформаційне середовище ВН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хема наповнення інформаційного середовища ВН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нформаційні об‘єкти в управлінні навчальним процес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22076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1476360" y="476280"/>
            <a:ext cx="6265800" cy="5898960"/>
            <a:chOff x="1476360" y="476280"/>
            <a:chExt cx="6265800" cy="5898960"/>
          </a:xfrm>
        </p:grpSpPr>
        <p:sp>
          <p:nvSpPr>
            <p:cNvPr id="172" name=""/>
            <p:cNvSpPr/>
            <p:nvPr/>
          </p:nvSpPr>
          <p:spPr>
            <a:xfrm>
              <a:off x="1476360" y="476280"/>
              <a:ext cx="6265800" cy="589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22400" y="3183840"/>
              <a:ext cx="5337720" cy="62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Інформаційне середовище системи управління навчальним процес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79760" y="2185200"/>
              <a:ext cx="398988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Інформаційне середовище процесу навч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51640" y="1085760"/>
              <a:ext cx="3018600" cy="45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Інформаційне середовище суб‘єктів навч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77480" y="4797720"/>
              <a:ext cx="3570840" cy="49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Інформаційне середовище системи управління ВН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553760" y="4016520"/>
              <a:ext cx="610020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32160" y="2822400"/>
              <a:ext cx="613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93680" y="1829880"/>
              <a:ext cx="522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624120" y="3710160"/>
              <a:ext cx="0" cy="6613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21320" y="3732120"/>
              <a:ext cx="0" cy="6613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624120" y="2480760"/>
              <a:ext cx="0" cy="6613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21320" y="2491560"/>
              <a:ext cx="0" cy="6613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624120" y="1523160"/>
              <a:ext cx="0" cy="6613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21320" y="1609200"/>
              <a:ext cx="0" cy="6613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042920" y="630864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1. Структура інформаційного середовища ВН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7d"/>
                </a:solidFill>
                <a:latin typeface="Arial"/>
              </a:rPr>
              <a:t>Структура інформаційного середовища ВН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нформаційним середовищем системи управління навчальним процесом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демо розуміти множину інформаційних об’єктів та інформаційних функцій, які реалізуються в навчальному процесі в ВН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нформаційним середовищем процесу навчання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будемо розуміти підмножину множини інформаційних об’єктів та інформаційних функцій системи управління навчальним процесом, які використовуються в процесі безпосереднього формування знань, вмінь і навичок студент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нформаційним середовищем суб’єкту навчання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будемо розуміти інтелектуальний апарат студента, в основі якого лежить набір інформаційних об’єктів, які відображають, в тому числі і необхідні для спеціаліста знання, вміння та навички професійної діяльності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7d"/>
                </a:solidFill>
                <a:latin typeface="Arial"/>
              </a:rPr>
              <a:t>Технологія наповнення інформаційного середовища ВН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івень знань, вмінь і навичок студентів є критерієм ефективності навчання, і відповідно, ефективності технології наповнення інформаційного середовища системи управління навчанн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обка ж ефективної технології наповнення інформаційного середовища може базуватися лише на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побудові адекватної реальній структурі математичної моделі інформаційного середовища ВНЗ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7d"/>
                </a:solidFill>
                <a:latin typeface="Arial"/>
              </a:rPr>
              <a:t>Схема наповнення інформаційного середовища ВН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ходячи з цілей діяльності ВНЗ можна сказати, що наповнення інформаційного середовища ВНЗ повинно бути таким, щоб цілеспрямовано і з найменшими витратами формувати такі зміни в інтелектуальному апараті суб’єкту навчання, які забезпечать підготовку фахівця з необхідним рівнем знань, вмінь і навичок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-66600" y="549360"/>
          <a:ext cx="921060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6600" y="549360"/>
                    <a:ext cx="92106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-181080" y="476280"/>
            <a:ext cx="6080400" cy="4852440"/>
            <a:chOff x="-181080" y="476280"/>
            <a:chExt cx="6080400" cy="4852440"/>
          </a:xfrm>
        </p:grpSpPr>
        <p:sp>
          <p:nvSpPr>
            <p:cNvPr id="196" name=""/>
            <p:cNvSpPr/>
            <p:nvPr/>
          </p:nvSpPr>
          <p:spPr>
            <a:xfrm>
              <a:off x="-181080" y="476280"/>
              <a:ext cx="193320" cy="37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42280" y="4930920"/>
              <a:ext cx="25704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5840" y="4384800"/>
              <a:ext cx="25380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04000" y="5167080"/>
              <a:ext cx="237960" cy="16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13280" y="4854600"/>
              <a:ext cx="31428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17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79280" y="6381720"/>
            <a:ext cx="89647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ис. 2. Схема наповнення об’єктів інформаційного середовища системи управління навчальним процесом ВН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нформаційні об‘єкти в управлінні навчальним проце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26920" y="2637000"/>
          <a:ext cx="7067880" cy="4027320"/>
        </p:xfrm>
        <a:graphic>
          <a:graphicData uri="http://schemas.openxmlformats.org/drawingml/2006/table">
            <a:tbl>
              <a:tblPr/>
              <a:tblGrid>
                <a:gridCol w="706788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ітньо-кваліфікаційна характеристика – U</a:t>
                      </a:r>
                      <a:r>
                        <a:rPr b="1" lang="uk-UA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ітня галузь  – u</a:t>
                      </a:r>
                      <a:r>
                        <a:rPr b="0" lang="uk-UA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ям підготовки – u</a:t>
                      </a:r>
                      <a:r>
                        <a:rPr b="0" lang="uk-UA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ітньо-кваліфікаційний рівень – u</a:t>
                      </a:r>
                      <a:r>
                        <a:rPr b="0" lang="uk-UA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ьність – u</a:t>
                      </a:r>
                      <a:r>
                        <a:rPr b="0" lang="uk-UA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53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іфікація – u</a:t>
                      </a:r>
                      <a:r>
                        <a:rPr b="0" lang="uk-UA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ени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б’єкт діяльності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u</a:t>
                      </a:r>
                      <a:r>
                        <a:rPr b="0" lang="uk-UA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мативни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ермін навчання (денна форма)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u</a:t>
                      </a:r>
                      <a:r>
                        <a:rPr b="0" lang="uk-UA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 економічної діяльності – u</a:t>
                      </a:r>
                      <a:r>
                        <a:rPr b="0" lang="uk-UA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395280" y="1916280"/>
            <a:ext cx="84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єкти інформаційного середовища системи управління навчальним процес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684360" y="1628640"/>
          <a:ext cx="205416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205416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505320" y="2438280"/>
            <a:ext cx="1199880" cy="800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8" name=""/>
          <p:cNvSpPr/>
          <p:nvPr/>
        </p:nvSpPr>
        <p:spPr>
          <a:xfrm>
            <a:off x="4952880" y="2590920"/>
            <a:ext cx="32004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Times New Roman"/>
              </a:rPr>
              <a:t>8(04</a:t>
            </a:r>
            <a:r>
              <a:rPr b="1" lang="uk-UA" sz="2800" spc="-1" strike="noStrike">
                <a:solidFill>
                  <a:srgbClr val="00007d"/>
                </a:solidFill>
                <a:latin typeface="Times New Roman"/>
              </a:rPr>
              <a:t>72</a:t>
            </a:r>
            <a:r>
              <a:rPr b="1" lang="en-GB" sz="2800" spc="-1" strike="noStrike">
                <a:solidFill>
                  <a:srgbClr val="00007d"/>
                </a:solidFill>
                <a:latin typeface="Times New Roman"/>
              </a:rPr>
              <a:t>) -</a:t>
            </a:r>
            <a:r>
              <a:rPr b="1" lang="uk-UA" sz="2800" spc="-1" strike="noStrike">
                <a:solidFill>
                  <a:srgbClr val="00007d"/>
                </a:solidFill>
                <a:latin typeface="Times New Roman"/>
              </a:rPr>
              <a:t>73-02-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3933720"/>
            <a:ext cx="4010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Times New Roman"/>
              </a:rPr>
              <a:t>tryusyv</a:t>
            </a:r>
            <a:r>
              <a:rPr b="0" lang="en-GB" sz="2800" spc="-1" strike="noStrike" u="sng">
                <a:solidFill>
                  <a:srgbClr val="666699"/>
                </a:solidFill>
                <a:uFillTx/>
                <a:latin typeface="Times New Roman"/>
                <a:hlinkClick r:id="rId4"/>
              </a:rPr>
              <a:t>@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Times New Roman"/>
              </a:rPr>
              <a:t>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0920" y="5373720"/>
            <a:ext cx="5715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e062a"/>
                </a:solidFill>
                <a:latin typeface="Times New Roman"/>
              </a:rPr>
              <a:t>Дякую за уваг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620640"/>
            <a:ext cx="671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7d"/>
                </a:solidFill>
                <a:latin typeface="Arial"/>
              </a:rPr>
              <a:t>Запитання і відповід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7d"/>
                </a:solidFill>
                <a:latin typeface="Arial"/>
              </a:rPr>
              <a:t>Постановка пробл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уково-методологічною основою створення ІАС управління ВНЗ є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истемний підхід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та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методи моделюванн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Концентрованим проявом такого підходу є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истемні модел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истемна модель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являє собою складну багаторівневу структуру, кожен рівень якої є визначеним етапом зображення системи, виражений та зафіксований мовою даного рів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7d"/>
                </a:solidFill>
                <a:latin typeface="Arial"/>
              </a:rPr>
              <a:t>Постановка пробл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ні рівні системної модел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івень ці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івень задач (методів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івень алгоритмів (технологі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івень організаційно-технічних засобів та процесів, що відбуваються в систем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7d"/>
                </a:solidFill>
                <a:latin typeface="Arial"/>
              </a:rPr>
              <a:t>Постановка пробл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НЗ являє собою досить складну організаційно-технічну систему, що повинна досягти в процесі свого функціонування двох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цілей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1. </a:t>
            </a:r>
            <a:r>
              <a:rPr b="0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Забезпечення підготовки фахівців з вищою освітою, наукових кадрів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, проведення наукових досліджень та ефективного використання наукового та загальнокультурного потенціалу ВНЗ відповідно до соціально-економічних запитів держав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0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Забезпечення життєдіяльності системи в процесі досягнення першої із цілей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7d"/>
                </a:solidFill>
                <a:latin typeface="Arial"/>
              </a:rPr>
              <a:t>Постановка пробл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вищення ефективності діяльності ВНЗ, як складної системи, проектування нових і удосконалення діючих систем управління ВНЗ в сучасних умовах повинні здійснюватися на основі системного підходу  і передбачати, зокр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рмулювання основних принципів управління ВН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значення функцій управління відповідно до основних стратегічних цілей і задач ВН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будову ефективної організаційної структури ВН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ворення нових інформаційних технологій в системі управління навчальним процесом ВН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7d"/>
                </a:solidFill>
                <a:latin typeface="Arial"/>
              </a:rPr>
              <a:t>Постановка пробл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Наукова задача досліджен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полягає в створенні системи автоматизованого навчання, контролю і оцінювання навчальних досягнень студентів, яка б надавала можливість не лише навчатися студентам у процесі самостійної роботи з використанням ІКТ, контролювати здобуті знання, вміння і навички, забезпечувати зворотній зв’язок викладача зі студентом через інформаційну базу системи, але й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забезпечувати вирішення завдань з управління навчальним процесом у ВНЗ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Інформаційне середовище ВН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ункціонування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системи управління ВНЗ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рямовано на отримання, опрацювання та використання інформаційних ресурсів для досягнення цілей діяльності ВНЗ. В інтегрованій системі управління ВНЗ можна виділити дві складов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истема управління навчанням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процесно-орієнтована), що забезпечує досягнення цілей підготовки фахівців з вищою освіт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истема управління ВНЗ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орієнтована на організацію), що забезпечує діяльність ВНЗ як організаційно-технічної систе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7d"/>
                </a:solidFill>
                <a:latin typeface="Arial"/>
              </a:rPr>
              <a:t>Інформаційне середовище ВН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удемо вважати, що всі необхідні для системи управління ВНЗ інформаційні ресурси містяться в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інформаційному середовищі ВНЗ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д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нформаційним середовищем ВНЗ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удемо розуміти сукупність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інформаційних об’єкті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ІО) та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інформаційних функцій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ІФ), необхідних для досягнення цілей діяльності ВН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9:49:35Z</dcterms:created>
  <dc:creator>User</dc:creator>
  <dc:description/>
  <dc:language>en-US</dc:language>
  <cp:lastModifiedBy>User</cp:lastModifiedBy>
  <dcterms:modified xsi:type="dcterms:W3CDTF">2009-09-10T10:42:19Z</dcterms:modified>
  <cp:revision>79</cp:revision>
  <dc:subject/>
  <dc:title>ІНФОРМАЦІЙНО-АНАЛІТИЧНА СИСТЕМА УПРАВЛІННЯ ВНЗ ЯК СКЛАДОВА ЦИФРОВОГО УНІВЕРСИТЕТУ </dc:title>
</cp:coreProperties>
</file>